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8199-75F9-42F8-9CF4-3847ADAEC1C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756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ole of financing strategies in national level water sector plann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nya and Mozambique</a:t>
            </a:r>
            <a:endParaRPr b="1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5409720"/>
            <a:ext cx="73915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ameel Virje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WI – FWG Meet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ckholm, Sweden, August 2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5040" y="-36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Key Emerging Points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ends to be sparse and of poor qualit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for the ‘model’ should be in the context of informing a national monitoring system and its developmen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should be within existing government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widely consultative to ensure that model assumptions are understood and accept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iterative to demonstrate the impact of bad data on decision making outcom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should examine different options available to finance sector targe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nor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positive impact of finances contributed in a SWAp arrangement and underpin a consolidated sector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ncial 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lans to Minister of Water, Ministry of Finance, Joint Sector Review and as part of PRSP monitoring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guidance t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sector ac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of running the sector appropriately to achieve impac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financing to different levels of government or sector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inancia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llowing the measurement of achievements against financial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utput 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impact of sector finance and help to leverage mor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33760" y="-360"/>
            <a:ext cx="56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Key Features of Financing Strateg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sts of meeting sector targe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investment costs for new and replacement infrastructur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and maintenance cos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linked to management/ development of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level of availabl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iff revenu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fund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’s own resourc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financing balances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sufficient at a national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available equitably across different reg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ew infrastructure development sustainable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 moving towards a SWAP and financing strategy is needed for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pinning the sector investment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channels of finance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ng financial management issues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eparation of roles in sector reform enhances need for coherent national strategy for financing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such a strategy also driven by the need for the sector to better represent its budget plans to the MoF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"/>
          <p:cNvSpPr/>
          <p:nvPr/>
        </p:nvSpPr>
        <p:spPr>
          <a:xfrm>
            <a:off x="661500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963800"/>
            <a:ext cx="6053040" cy="441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NANC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701800"/>
            <a:ext cx="1919160" cy="443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1449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05440" y="35877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3840" y="4030560"/>
            <a:ext cx="191952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8592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2428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228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064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3864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7700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15000" y="4768920"/>
            <a:ext cx="738360" cy="441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3040" y="2405160"/>
            <a:ext cx="738000" cy="592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8592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2428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228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0064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3864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7700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3040" y="4325760"/>
            <a:ext cx="73800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53040" y="1668600"/>
            <a:ext cx="738000" cy="295200"/>
          </a:xfrm>
          <a:prstGeom prst="downArrow">
            <a:avLst>
              <a:gd name="adj1" fmla="val 36222"/>
              <a:gd name="adj2" fmla="val 305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373040"/>
            <a:ext cx="6053040" cy="29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tor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235480"/>
            <a:ext cx="4281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vailable Sector F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1349280"/>
            <a:ext cx="76320" cy="106704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188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18828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467480" y="56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568600"/>
            <a:ext cx="1600200" cy="1159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nels of finance and their leveraging of user/community/marke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adopt sector movement to a SWAp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analysis of sector finances by a multi-stakeholder group in the Ministry of Water and Irrigation (SIP working group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review assumptions in the analysis includ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Board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Trust Fu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Regulatory Boar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artn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 forward adopted and further data collection exercises beg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olicy options report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strategy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25760" y="-360"/>
            <a:ext cx="661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rural water financing strategy identified by governmen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on institutional work done as part of the country MDG roadmap and other sector documen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ector reform issue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ecentralization to the district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for the National Directorate for Water to increase its policy formulation and monitoring rol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to better coordinate fragmented donor projec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57040" y="-36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dentification mission and development of process TORs with Government of Mozambiqu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financial assessment for the rural water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sector finance to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baseline financial analysi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verall budget process and financial bottlenecks in the s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options analyzed by DNA-GPC (with consultant support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trategy propos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6:28:32Z</dcterms:modified>
  <cp:revision>295</cp:revision>
  <dc:subject/>
  <dc:title>PowerPoint Presentation</dc:title>
</cp:coreProperties>
</file>